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.jpeg" ContentType="image/jpeg"/>
  <Override PartName="/ppt/media/image3.wmf" ContentType="image/x-wmf"/>
  <Override PartName="/ppt/media/image4.png" ContentType="image/png"/>
  <Override PartName="/ppt/media/image10.png" ContentType="image/png"/>
  <Override PartName="/ppt/media/image5.wmf" ContentType="image/x-wmf"/>
  <Override PartName="/ppt/media/image11.png" ContentType="image/png"/>
  <Override PartName="/ppt/media/image6.png" ContentType="image/png"/>
  <Override PartName="/ppt/media/image14.wmf" ContentType="image/x-wmf"/>
  <Override PartName="/ppt/media/image1.jpeg" ContentType="image/jpeg"/>
  <Override PartName="/ppt/media/image7.png" ContentType="image/png"/>
  <Override PartName="/ppt/media/image12.png" ContentType="image/png"/>
  <Override PartName="/ppt/media/image9.png" ContentType="image/png"/>
  <Override PartName="/ppt/media/image13.png" ContentType="image/png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73152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7932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4804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077480" y="742680"/>
            <a:ext cx="4643640" cy="3714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0" y="940752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48040" y="940752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E14E8-2AB2-44FA-A2DA-2DA7D60A698C}" type="slidenum">
              <a:rPr b="0" lang="sl-S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48040" y="940752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A1703-C4B6-4FD0-9148-61111F15AFB0}" type="slidenum">
              <a:rPr b="0" lang="sl-S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077840" y="743040"/>
            <a:ext cx="4643640" cy="371484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l-SI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E871F-970F-4F17-8FE9-D5ED2032B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C9A95-93F0-4E38-826D-352B71D81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31CFE-8518-432D-AC1F-E11993CB5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4B35E-A8BB-421D-98B8-D8500B498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FB19F-A707-4778-BA60-44155A74F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77EEF-A565-45DE-9547-406866C4C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A0EB2-2F8F-4EB5-8EE7-93C9FD012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DFB9D-C77B-4F76-9435-95ECEAF31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063D5-6AD5-46CE-9F43-E8BDB2CCE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3760"/>
            <a:ext cx="82296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F8C07-D168-4E8B-B382-154BA8BAB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6F0F5-E1D6-431E-8781-032828A4D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4DF4D-1618-44FD-87AF-C35E72871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8944E-1CEC-4277-97B6-FEF599E8E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4FF19-752B-4F62-A77D-D47CB0A9D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D6B0F-8E30-4039-9D8D-C994E2741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790B9-5EC0-4568-AB46-1D38C61E8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75F0B-CDB7-40B5-A79B-64E624F19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76FC0-FDD8-4F46-8211-55989F2AF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7B470-1B6C-4A0A-BE3C-2C4A03F4D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900A5-90F4-4312-A4EC-F783ECC63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3760"/>
            <a:ext cx="82296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066A9-8CFA-4140-804C-BB22722D4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8BD15-4BE7-4F1F-BBCB-CD4EF6666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44648-75A3-4E8D-890A-2F3144C1B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68F69-5B5D-404C-A24C-EB6CCD7B9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7035480"/>
            <a:ext cx="21337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000" spc="-1" strike="noStrike">
                <a:solidFill>
                  <a:srgbClr val="034ea2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47410-CDBF-4936-B15A-A5F70CB5C9A0}" type="datetime">
              <a:rPr b="0" lang="sl-SI" sz="1000" spc="-1" strike="noStrike">
                <a:solidFill>
                  <a:srgbClr val="034ea2"/>
                </a:solidFill>
                <a:latin typeface="Arial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7035480"/>
            <a:ext cx="289584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7035480"/>
            <a:ext cx="21337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000" spc="-1" strike="noStrike">
                <a:solidFill>
                  <a:srgbClr val="034ea2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F8678-97CC-4ABB-A87B-694129CEB690}" type="slidenum">
              <a:rPr b="0" lang="sl-SI" sz="1000" spc="-1" strike="noStrike">
                <a:solidFill>
                  <a:srgbClr val="034ea2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70640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660720"/>
            <a:ext cx="213372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F96DD-8FBF-47EA-B0B9-B8C10F179A14}" type="datetime">
              <a:rPr b="0" lang="sl-SI" sz="14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660720"/>
            <a:ext cx="289584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660720"/>
            <a:ext cx="213372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5E6FF-846C-450B-BF0D-4E170A98E833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Date Placeholder 3"/>
          <p:cNvSpPr/>
          <p:nvPr/>
        </p:nvSpPr>
        <p:spPr>
          <a:xfrm>
            <a:off x="45720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62822-C174-4B46-B857-5663DC4636B5}" type="datetime">
              <a:rPr b="0" lang="sl-SI" sz="1000" spc="-1" strike="noStrike">
                <a:solidFill>
                  <a:srgbClr val="002060"/>
                </a:solidFill>
                <a:latin typeface="Arial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lide Number Placeholder 5"/>
          <p:cNvSpPr/>
          <p:nvPr/>
        </p:nvSpPr>
        <p:spPr>
          <a:xfrm>
            <a:off x="655308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ED28A-7AE5-4243-BB0B-2A509E2B5CF6}" type="slidenum">
              <a:rPr b="0" lang="sl-SI" sz="1000" spc="-1" strike="noStrike">
                <a:solidFill>
                  <a:srgbClr val="00206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5"/>
          <p:cNvSpPr/>
          <p:nvPr/>
        </p:nvSpPr>
        <p:spPr>
          <a:xfrm>
            <a:off x="1044720" y="1136520"/>
            <a:ext cx="2879640" cy="108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34ea2"/>
                </a:solidFill>
                <a:latin typeface="Century Gothic"/>
              </a:rPr>
              <a:t>MINISTRSTVO ZA FIN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808080"/>
                </a:solidFill>
                <a:latin typeface="Century Gothic"/>
              </a:rPr>
              <a:t>Beethovnova 11, 1000 Ljubljan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808080"/>
                </a:solidFill>
                <a:latin typeface="Century Gothic"/>
              </a:rPr>
              <a:t>Tel.: (01) 369-65-10 Fax: (01) 369-65-3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808080"/>
                </a:solidFill>
                <a:latin typeface="Century Gothic"/>
              </a:rPr>
              <a:t>SUSEU/PO - ORGAN ZA POTRJEVANJ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7"/>
          <p:cNvSpPr/>
          <p:nvPr/>
        </p:nvSpPr>
        <p:spPr>
          <a:xfrm>
            <a:off x="971640" y="2881440"/>
            <a:ext cx="7270560" cy="29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9"/>
          <p:cNvSpPr/>
          <p:nvPr/>
        </p:nvSpPr>
        <p:spPr>
          <a:xfrm>
            <a:off x="179280" y="3152880"/>
            <a:ext cx="84981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4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sl-SI" sz="4400" spc="-1" strike="noStrike">
                <a:solidFill>
                  <a:srgbClr val="003366"/>
                </a:solidFill>
                <a:latin typeface="Calibri"/>
                <a:ea typeface="Calibri"/>
              </a:rPr>
              <a:t>Finančna realizacija izvajanja OP RR in OP ROPI za obdobje </a:t>
            </a:r>
            <a:br>
              <a:rPr sz="4400"/>
            </a:br>
            <a:r>
              <a:rPr b="1" lang="sl-SI" sz="4400" spc="-1" strike="noStrike">
                <a:solidFill>
                  <a:srgbClr val="003366"/>
                </a:solidFill>
                <a:latin typeface="Calibri"/>
                <a:ea typeface="Calibri"/>
              </a:rPr>
              <a:t>2007-2013</a:t>
            </a:r>
            <a:r>
              <a:rPr b="0" lang="sl-SI" sz="4400" spc="-1" strike="noStrike">
                <a:solidFill>
                  <a:srgbClr val="003366"/>
                </a:solidFill>
                <a:latin typeface="Calibri"/>
                <a:ea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0"/>
          <p:cNvSpPr/>
          <p:nvPr/>
        </p:nvSpPr>
        <p:spPr>
          <a:xfrm>
            <a:off x="39600" y="4233960"/>
            <a:ext cx="91044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Date Placeholder 1"/>
          <p:cNvSpPr/>
          <p:nvPr/>
        </p:nvSpPr>
        <p:spPr>
          <a:xfrm>
            <a:off x="45720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06E0F-4981-48E4-87F1-BCB7F7D59C96}" type="datetime">
              <a:rPr b="0" lang="sl-SI" sz="1000" spc="-1" strike="noStrike">
                <a:solidFill>
                  <a:srgbClr val="034ea2"/>
                </a:solidFill>
                <a:latin typeface="Arial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655308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3CA83-23DC-4864-AB29-E507AB77CB05}" type="slidenum">
              <a:rPr b="0" lang="sl-SI" sz="1000" spc="-1" strike="noStrike">
                <a:solidFill>
                  <a:srgbClr val="034ea2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1908000" y="3152880"/>
          <a:ext cx="5400720" cy="2073240"/>
        </p:xfrm>
        <a:graphic>
          <a:graphicData uri="http://schemas.openxmlformats.org/drawingml/2006/table">
            <a:tbl>
              <a:tblPr/>
              <a:tblGrid>
                <a:gridCol w="1224000"/>
                <a:gridCol w="2089440"/>
                <a:gridCol w="2087280"/>
              </a:tblGrid>
              <a:tr h="809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ogoji za certificiranj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ZzP v obdelavi na P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</a:tr>
              <a:tr h="6318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600" spc="-1" strike="noStrike">
                          <a:solidFill>
                            <a:srgbClr val="003366"/>
                          </a:solidFill>
                          <a:latin typeface="Calibri"/>
                          <a:ea typeface="Calibri"/>
                        </a:rPr>
                        <a:t>ESR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600" spc="-1" strike="noStrike">
                          <a:solidFill>
                            <a:srgbClr val="003366"/>
                          </a:solidFill>
                          <a:latin typeface="Calibri"/>
                          <a:ea typeface="Calibri"/>
                        </a:rPr>
                        <a:t>0,5 mio EU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600" spc="-1" strike="noStrike">
                          <a:solidFill>
                            <a:srgbClr val="003366"/>
                          </a:solidFill>
                          <a:latin typeface="Calibri"/>
                          <a:ea typeface="Calibri"/>
                        </a:rPr>
                        <a:t>0,5 mio EU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8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600" spc="-1" strike="noStrike">
                          <a:solidFill>
                            <a:srgbClr val="003366"/>
                          </a:solidFill>
                          <a:latin typeface="Calibri"/>
                          <a:ea typeface="Calibri"/>
                        </a:rPr>
                        <a:t>K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600" spc="-1" strike="noStrike">
                          <a:solidFill>
                            <a:srgbClr val="003366"/>
                          </a:solidFill>
                          <a:latin typeface="Calibri"/>
                          <a:ea typeface="Calibri"/>
                        </a:rPr>
                        <a:t>63,5 mio EU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600" spc="-1" strike="noStrike">
                          <a:solidFill>
                            <a:srgbClr val="003366"/>
                          </a:solidFill>
                          <a:latin typeface="Calibri"/>
                          <a:ea typeface="Calibri"/>
                        </a:rPr>
                        <a:t>8 mio EU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2" name="Rectangle 19"/>
          <p:cNvSpPr/>
          <p:nvPr/>
        </p:nvSpPr>
        <p:spPr>
          <a:xfrm>
            <a:off x="1932480" y="2149560"/>
            <a:ext cx="497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3366"/>
                </a:solidFill>
                <a:latin typeface="Calibri"/>
                <a:ea typeface="Calibri"/>
              </a:rPr>
              <a:t>Stanje ZzP na PO - OP ROPI 2007-20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20"/>
          <p:cNvSpPr/>
          <p:nvPr/>
        </p:nvSpPr>
        <p:spPr>
          <a:xfrm>
            <a:off x="1795320" y="2865600"/>
            <a:ext cx="5656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Calibri"/>
              </a:rPr>
              <a:t>Prispevek Skupnosti (v EUR)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9"/>
          <p:cNvSpPr/>
          <p:nvPr/>
        </p:nvSpPr>
        <p:spPr>
          <a:xfrm>
            <a:off x="411120" y="6321600"/>
            <a:ext cx="47214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Calibri"/>
              </a:rPr>
              <a:t>Stanje na dan: 30. 4. 20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Calibri"/>
              </a:rPr>
              <a:t>Vir: IS-PA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Date Placeholder 1"/>
          <p:cNvSpPr/>
          <p:nvPr/>
        </p:nvSpPr>
        <p:spPr>
          <a:xfrm>
            <a:off x="45720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9C749-8818-4DC9-9025-8555D7E68576}" type="datetime">
              <a:rPr b="0" lang="sl-SI" sz="1000" spc="-1" strike="noStrike">
                <a:solidFill>
                  <a:srgbClr val="003366"/>
                </a:solidFill>
                <a:latin typeface="Arial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655308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D434B-F403-42DE-B319-DD899A398B3B}" type="slidenum">
              <a:rPr b="0" lang="sl-SI" sz="10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5"/>
          <p:cNvSpPr/>
          <p:nvPr/>
        </p:nvSpPr>
        <p:spPr>
          <a:xfrm>
            <a:off x="1348560" y="1574640"/>
            <a:ext cx="604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3366"/>
                </a:solidFill>
                <a:latin typeface="Calibri"/>
                <a:ea typeface="Calibri"/>
              </a:rPr>
              <a:t>Uresničevanje pravila n+2/3 za OP ROPI  07-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6"/>
          <p:cNvSpPr/>
          <p:nvPr/>
        </p:nvSpPr>
        <p:spPr>
          <a:xfrm>
            <a:off x="311040" y="2301840"/>
            <a:ext cx="5656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Calibri"/>
                <a:ea typeface="Calibri"/>
              </a:rPr>
              <a:t>Prispevek Skupnosti (v EU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34"/>
          <p:cNvSpPr/>
          <p:nvPr/>
        </p:nvSpPr>
        <p:spPr>
          <a:xfrm>
            <a:off x="684360" y="5972040"/>
            <a:ext cx="7343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Calibri"/>
                <a:ea typeface="Calibri"/>
              </a:rPr>
              <a:t>Stopnja doseganja FN 2007-2013: 27% KS oz. 45% ESR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Calibri"/>
                <a:ea typeface="Calibri"/>
              </a:rPr>
              <a:t>V letošnjem letu se N+2/3 na OP ROPI KS z 293 mio € zniža za 206 mio € (čl. 94 uredbe ES 1083/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39"/>
          <p:cNvSpPr/>
          <p:nvPr/>
        </p:nvSpPr>
        <p:spPr>
          <a:xfrm>
            <a:off x="411120" y="6321600"/>
            <a:ext cx="47214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Calibri"/>
              </a:rPr>
              <a:t>Stanje na dan: 30. 4. 20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Calibri"/>
              </a:rPr>
              <a:t>Vir: IS-PA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9" descr=""/>
          <p:cNvPicPr/>
          <p:nvPr/>
        </p:nvPicPr>
        <p:blipFill>
          <a:blip r:embed="rId1"/>
          <a:stretch/>
        </p:blipFill>
        <p:spPr>
          <a:xfrm>
            <a:off x="333360" y="2630520"/>
            <a:ext cx="7777080" cy="32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Date Placeholder 1"/>
          <p:cNvSpPr/>
          <p:nvPr/>
        </p:nvSpPr>
        <p:spPr>
          <a:xfrm>
            <a:off x="45720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38A0C-FB10-4667-ACA5-1BD199C0B029}" type="datetime">
              <a:rPr b="0" lang="sl-SI" sz="1000" spc="-1" strike="noStrike">
                <a:solidFill>
                  <a:srgbClr val="034ea2"/>
                </a:solidFill>
                <a:latin typeface="Arial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655308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AF26B-AAC7-4259-9266-7B17A6EC8B57}" type="slidenum">
              <a:rPr b="0" lang="sl-SI" sz="1000" spc="-1" strike="noStrike">
                <a:solidFill>
                  <a:srgbClr val="034ea2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4"/>
          <p:cNvSpPr/>
          <p:nvPr/>
        </p:nvSpPr>
        <p:spPr>
          <a:xfrm>
            <a:off x="1272600" y="1933560"/>
            <a:ext cx="551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3366"/>
                </a:solidFill>
                <a:latin typeface="Calibri"/>
                <a:ea typeface="Calibri"/>
              </a:rPr>
              <a:t>Zahtevek za plačilo – napovedi za OP RO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395280" y="2936880"/>
          <a:ext cx="8209080" cy="1554120"/>
        </p:xfrm>
        <a:graphic>
          <a:graphicData uri="http://schemas.openxmlformats.org/drawingml/2006/table">
            <a:tbl>
              <a:tblPr/>
              <a:tblGrid>
                <a:gridCol w="2736720"/>
                <a:gridCol w="2735280"/>
                <a:gridCol w="273708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Le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OP ROPI K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OP ROPI E</a:t>
                      </a:r>
                      <a:r>
                        <a:rPr b="0" lang="sl-SI" sz="25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SRR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00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0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66,38 mio EU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5,37 mio EU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0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51,63 mio EU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4,78 mio EU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19"/>
          <p:cNvSpPr/>
          <p:nvPr/>
        </p:nvSpPr>
        <p:spPr>
          <a:xfrm>
            <a:off x="450720" y="4881600"/>
            <a:ext cx="1881360" cy="307080"/>
          </a:xfrm>
          <a:prstGeom prst="rect">
            <a:avLst/>
          </a:prstGeom>
          <a:solidFill>
            <a:srgbClr val="66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400" spc="-1" strike="noStrike">
                <a:solidFill>
                  <a:srgbClr val="ffffff"/>
                </a:solidFill>
                <a:latin typeface="Arial Unicode MS"/>
              </a:rPr>
              <a:t>Vir: SFC 2007 – 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34"/>
          <p:cNvSpPr/>
          <p:nvPr/>
        </p:nvSpPr>
        <p:spPr>
          <a:xfrm>
            <a:off x="262080" y="5416560"/>
            <a:ext cx="5655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Realizacija napovedi 2013 na dan 30.  4.  2014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                                 </a:t>
            </a: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OP ROPI KS:                         0,0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                                 </a:t>
            </a: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OP ROPI ESRR:                     0,00%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Date Placeholder 3"/>
          <p:cNvSpPr/>
          <p:nvPr/>
        </p:nvSpPr>
        <p:spPr>
          <a:xfrm>
            <a:off x="45720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158AA-0EF2-4888-8B95-F3C127D3ECA9}" type="datetime">
              <a:rPr b="0" lang="sl-SI" sz="1000" spc="-1" strike="noStrike">
                <a:solidFill>
                  <a:srgbClr val="003366"/>
                </a:solidFill>
                <a:latin typeface="Arial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lide Number Placeholder 5"/>
          <p:cNvSpPr/>
          <p:nvPr/>
        </p:nvSpPr>
        <p:spPr>
          <a:xfrm>
            <a:off x="655308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81843-275E-4F40-86EF-08BC1D18CE2F}" type="slidenum">
              <a:rPr b="0" lang="sl-SI" sz="1000" spc="-1" strike="noStrike">
                <a:solidFill>
                  <a:srgbClr val="034ea2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39"/>
          <p:cNvSpPr/>
          <p:nvPr/>
        </p:nvSpPr>
        <p:spPr>
          <a:xfrm>
            <a:off x="490680" y="6321600"/>
            <a:ext cx="47210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Calibri"/>
              </a:rPr>
              <a:t>Stanje na dan: 30. 4. 20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Calibri"/>
              </a:rPr>
              <a:t>Vir: IS-PA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40"/>
          <p:cNvSpPr/>
          <p:nvPr/>
        </p:nvSpPr>
        <p:spPr>
          <a:xfrm>
            <a:off x="767520" y="1065240"/>
            <a:ext cx="744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3366"/>
                </a:solidFill>
                <a:latin typeface="Calibri"/>
                <a:ea typeface="Calibri"/>
              </a:rPr>
              <a:t>Letni pregled avtoriziranih/certificiranih izdatkov – OP R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53"/>
          <p:cNvSpPr/>
          <p:nvPr/>
        </p:nvSpPr>
        <p:spPr>
          <a:xfrm>
            <a:off x="490680" y="1641600"/>
            <a:ext cx="565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Calibri"/>
              </a:rPr>
              <a:t>Prispevek Skupnosti (v EU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9" descr=""/>
          <p:cNvPicPr/>
          <p:nvPr/>
        </p:nvPicPr>
        <p:blipFill>
          <a:blip r:embed="rId1"/>
          <a:stretch/>
        </p:blipFill>
        <p:spPr>
          <a:xfrm>
            <a:off x="582480" y="1919160"/>
            <a:ext cx="4535640" cy="2167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0" descr=""/>
          <p:cNvPicPr/>
          <p:nvPr/>
        </p:nvPicPr>
        <p:blipFill>
          <a:blip r:embed="rId2"/>
          <a:stretch/>
        </p:blipFill>
        <p:spPr>
          <a:xfrm>
            <a:off x="4211640" y="4449600"/>
            <a:ext cx="4189320" cy="24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Date Placeholder 3"/>
          <p:cNvSpPr/>
          <p:nvPr/>
        </p:nvSpPr>
        <p:spPr>
          <a:xfrm>
            <a:off x="45720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DD0CC-9BBB-4F55-8096-0ED587788A1F}" type="datetime">
              <a:rPr b="0" lang="sl-SI" sz="1000" spc="-1" strike="noStrike">
                <a:solidFill>
                  <a:srgbClr val="034ea2"/>
                </a:solidFill>
                <a:latin typeface="Arial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lide Number Placeholder 5"/>
          <p:cNvSpPr/>
          <p:nvPr/>
        </p:nvSpPr>
        <p:spPr>
          <a:xfrm>
            <a:off x="655308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D0AE1-DBD1-4FB1-A7D8-EB1A47FDE25B}" type="slidenum">
              <a:rPr b="0" lang="sl-SI" sz="1000" spc="-1" strike="noStrike">
                <a:solidFill>
                  <a:srgbClr val="034ea2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1835280" y="2936880"/>
          <a:ext cx="5400720" cy="1441440"/>
        </p:xfrm>
        <a:graphic>
          <a:graphicData uri="http://schemas.openxmlformats.org/drawingml/2006/table">
            <a:tbl>
              <a:tblPr/>
              <a:tblGrid>
                <a:gridCol w="1224000"/>
                <a:gridCol w="2089080"/>
                <a:gridCol w="2087640"/>
              </a:tblGrid>
              <a:tr h="809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ogoji za certificiranj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ZzP v obdelavi na P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</a:tr>
              <a:tr h="6318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. 4. 20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9 mio EU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,3 mio EU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5" name="Rectangle 40"/>
          <p:cNvSpPr/>
          <p:nvPr/>
        </p:nvSpPr>
        <p:spPr>
          <a:xfrm>
            <a:off x="2133360" y="1951200"/>
            <a:ext cx="469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3366"/>
                </a:solidFill>
                <a:latin typeface="Calibri"/>
                <a:ea typeface="Calibri"/>
              </a:rPr>
              <a:t>Stanje ZzP na PO - OP RR 2007-20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67"/>
          <p:cNvSpPr/>
          <p:nvPr/>
        </p:nvSpPr>
        <p:spPr>
          <a:xfrm>
            <a:off x="1763640" y="2649600"/>
            <a:ext cx="5656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Calibri"/>
                <a:ea typeface="Calibri"/>
              </a:rPr>
              <a:t>Prispevek Skupnosti (v EU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68"/>
          <p:cNvSpPr/>
          <p:nvPr/>
        </p:nvSpPr>
        <p:spPr>
          <a:xfrm>
            <a:off x="2143800" y="4498920"/>
            <a:ext cx="505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Calibri"/>
                <a:ea typeface="Calibri"/>
              </a:rPr>
              <a:t>Število prejetih ZzP v l. 2014: 341 v vrednosti 63,5 mio EUR</a:t>
            </a:r>
            <a:r>
              <a:rPr b="0" lang="sl-SI" sz="1600" spc="-1" strike="noStrike">
                <a:solidFill>
                  <a:srgbClr val="003366"/>
                </a:solidFill>
                <a:latin typeface="Calibri"/>
                <a:ea typeface="Calibri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39"/>
          <p:cNvSpPr/>
          <p:nvPr/>
        </p:nvSpPr>
        <p:spPr>
          <a:xfrm>
            <a:off x="490680" y="6321600"/>
            <a:ext cx="47210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Calibri"/>
              </a:rPr>
              <a:t>Stanje na dan: 30. 4. 20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Calibri"/>
              </a:rPr>
              <a:t>Vir: IS-PA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Date Placeholder 3"/>
          <p:cNvSpPr/>
          <p:nvPr/>
        </p:nvSpPr>
        <p:spPr>
          <a:xfrm>
            <a:off x="45720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7B4D1-FAFF-41CD-8F7D-CD58A4C99F80}" type="datetime">
              <a:rPr b="0" lang="sl-SI" sz="1000" spc="-1" strike="noStrike">
                <a:solidFill>
                  <a:srgbClr val="003366"/>
                </a:solidFill>
                <a:latin typeface="Arial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lide Number Placeholder 5"/>
          <p:cNvSpPr/>
          <p:nvPr/>
        </p:nvSpPr>
        <p:spPr>
          <a:xfrm>
            <a:off x="655308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7966E-C1BB-4E15-8361-AF45CE718364}" type="slidenum">
              <a:rPr b="0" lang="sl-SI" sz="10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33"/>
          <p:cNvSpPr/>
          <p:nvPr/>
        </p:nvSpPr>
        <p:spPr>
          <a:xfrm>
            <a:off x="1347840" y="1574640"/>
            <a:ext cx="569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3366"/>
                </a:solidFill>
                <a:latin typeface="Calibri"/>
                <a:ea typeface="Calibri"/>
              </a:rPr>
              <a:t>Uresničevanje pravila n+2/3 za OP RR 07-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34"/>
          <p:cNvSpPr/>
          <p:nvPr/>
        </p:nvSpPr>
        <p:spPr>
          <a:xfrm>
            <a:off x="210960" y="2921040"/>
            <a:ext cx="5656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Calibri"/>
              </a:rPr>
              <a:t>Prispevek Skupnosti (v EU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4"/>
          <p:cNvSpPr/>
          <p:nvPr/>
        </p:nvSpPr>
        <p:spPr>
          <a:xfrm>
            <a:off x="387360" y="5632560"/>
            <a:ext cx="5656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Calibri"/>
                <a:ea typeface="Calibri"/>
              </a:rPr>
              <a:t>Stopnja doseganja FN 2007-2013 na dan 30. 4. 2014:  73,8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9" descr=""/>
          <p:cNvPicPr/>
          <p:nvPr/>
        </p:nvPicPr>
        <p:blipFill>
          <a:blip r:embed="rId1"/>
          <a:stretch/>
        </p:blipFill>
        <p:spPr>
          <a:xfrm>
            <a:off x="250920" y="3240000"/>
            <a:ext cx="8296200" cy="227664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39"/>
          <p:cNvSpPr/>
          <p:nvPr/>
        </p:nvSpPr>
        <p:spPr>
          <a:xfrm>
            <a:off x="411120" y="6321600"/>
            <a:ext cx="47214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Calibri"/>
              </a:rPr>
              <a:t>Stanje na dan: 30. 4. 20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Calibri"/>
              </a:rPr>
              <a:t>Vir: IS-PA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Date Placeholder 1"/>
          <p:cNvSpPr/>
          <p:nvPr/>
        </p:nvSpPr>
        <p:spPr>
          <a:xfrm>
            <a:off x="45720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2C50E-35F6-46D7-A659-2AFB0B55CE6B}" type="datetime">
              <a:rPr b="0" lang="sl-SI" sz="1000" spc="-1" strike="noStrike">
                <a:solidFill>
                  <a:srgbClr val="003366"/>
                </a:solidFill>
                <a:latin typeface="Calibri"/>
                <a:ea typeface="Calibri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655308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44F3E-7DDB-4533-9187-1AD4175A9BF7}" type="slidenum">
              <a:rPr b="0" lang="sl-SI" sz="1000" spc="-1" strike="noStrike">
                <a:solidFill>
                  <a:srgbClr val="034ea2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4"/>
          <p:cNvSpPr/>
          <p:nvPr/>
        </p:nvSpPr>
        <p:spPr>
          <a:xfrm>
            <a:off x="1271520" y="1933560"/>
            <a:ext cx="524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3366"/>
                </a:solidFill>
                <a:latin typeface="Calibri"/>
                <a:ea typeface="Calibri"/>
              </a:rPr>
              <a:t>Zahtevek za plačilo – napovedi za OP R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1332000" y="2936880"/>
          <a:ext cx="6095880" cy="1554120"/>
        </p:xfrm>
        <a:graphic>
          <a:graphicData uri="http://schemas.openxmlformats.org/drawingml/2006/table">
            <a:tbl>
              <a:tblPr/>
              <a:tblGrid>
                <a:gridCol w="3047760"/>
                <a:gridCol w="304812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Le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Vredno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00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0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60 mio EU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0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47 mio EU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0" name="Rectangle 47"/>
          <p:cNvSpPr/>
          <p:nvPr/>
        </p:nvSpPr>
        <p:spPr>
          <a:xfrm>
            <a:off x="1307520" y="4791240"/>
            <a:ext cx="1669680" cy="307080"/>
          </a:xfrm>
          <a:prstGeom prst="rect">
            <a:avLst/>
          </a:prstGeom>
          <a:solidFill>
            <a:srgbClr val="66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400" spc="-1" strike="noStrike">
                <a:solidFill>
                  <a:srgbClr val="ffffff"/>
                </a:solidFill>
                <a:latin typeface="Calibri"/>
                <a:ea typeface="Calibri"/>
              </a:rPr>
              <a:t>Vir: SFC 2007 – 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34"/>
          <p:cNvSpPr/>
          <p:nvPr/>
        </p:nvSpPr>
        <p:spPr>
          <a:xfrm>
            <a:off x="1258920" y="5529240"/>
            <a:ext cx="5656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Realizacija napovedi 2014 na dan 30. 4. 2014: 0,00% (zaustavitev plačil EK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Date Placeholder 1"/>
          <p:cNvSpPr/>
          <p:nvPr/>
        </p:nvSpPr>
        <p:spPr>
          <a:xfrm>
            <a:off x="45720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6657E-9021-4C42-8F99-DFCE07F5A0D9}" type="datetime">
              <a:rPr b="0" lang="sl-SI" sz="1000" spc="-1" strike="noStrike">
                <a:solidFill>
                  <a:srgbClr val="034ea2"/>
                </a:solidFill>
                <a:latin typeface="Arial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lide Number Placeholder 2"/>
          <p:cNvSpPr/>
          <p:nvPr/>
        </p:nvSpPr>
        <p:spPr>
          <a:xfrm>
            <a:off x="655308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D2F63-A92E-4AC4-B870-89DE3BA3BF87}" type="slidenum">
              <a:rPr b="0" lang="sl-SI" sz="1000" spc="-1" strike="noStrike">
                <a:solidFill>
                  <a:srgbClr val="034ea2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4"/>
          <p:cNvSpPr/>
          <p:nvPr/>
        </p:nvSpPr>
        <p:spPr>
          <a:xfrm>
            <a:off x="2236320" y="2001960"/>
            <a:ext cx="427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3366"/>
                </a:solidFill>
                <a:latin typeface="Calibri"/>
                <a:ea typeface="Calibri"/>
              </a:rPr>
              <a:t>Finančni tokovi PO - EK za OP R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Group 1"/>
          <p:cNvGrpSpPr/>
          <p:nvPr/>
        </p:nvGrpSpPr>
        <p:grpSpPr>
          <a:xfrm>
            <a:off x="324000" y="3081240"/>
            <a:ext cx="8100720" cy="3235320"/>
            <a:chOff x="324000" y="3081240"/>
            <a:chExt cx="8100720" cy="3235320"/>
          </a:xfrm>
        </p:grpSpPr>
        <p:pic>
          <p:nvPicPr>
            <p:cNvPr id="126" name="Picture 7" descr=""/>
            <p:cNvPicPr/>
            <p:nvPr/>
          </p:nvPicPr>
          <p:blipFill>
            <a:blip r:embed="rId1"/>
            <a:stretch/>
          </p:blipFill>
          <p:spPr>
            <a:xfrm>
              <a:off x="324000" y="3713040"/>
              <a:ext cx="8100720" cy="260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8" descr=""/>
            <p:cNvPicPr/>
            <p:nvPr/>
          </p:nvPicPr>
          <p:blipFill>
            <a:blip r:embed="rId2"/>
            <a:stretch/>
          </p:blipFill>
          <p:spPr>
            <a:xfrm>
              <a:off x="340920" y="3081240"/>
              <a:ext cx="8036640" cy="650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Date Placeholder 1"/>
          <p:cNvSpPr/>
          <p:nvPr/>
        </p:nvSpPr>
        <p:spPr>
          <a:xfrm>
            <a:off x="45720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5B3B1-DBED-4770-9034-9ED801A0B34C}" type="datetime">
              <a:rPr b="0" lang="sl-SI" sz="1000" spc="-1" strike="noStrike">
                <a:solidFill>
                  <a:srgbClr val="003366"/>
                </a:solidFill>
                <a:latin typeface="Calibri"/>
                <a:ea typeface="Calibri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655308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E71B1-04BC-4F9D-A04E-B55E035C256F}" type="slidenum">
              <a:rPr b="0" lang="sl-SI" sz="1000" spc="-1" strike="noStrike">
                <a:solidFill>
                  <a:srgbClr val="003366"/>
                </a:solidFill>
                <a:latin typeface="Calibri"/>
                <a:ea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"/>
          <p:cNvSpPr/>
          <p:nvPr/>
        </p:nvSpPr>
        <p:spPr>
          <a:xfrm>
            <a:off x="395280" y="1569960"/>
            <a:ext cx="5656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Calibri"/>
                <a:ea typeface="Calibri"/>
              </a:rPr>
              <a:t>Prispevek Skupnosti (v EU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40"/>
          <p:cNvSpPr/>
          <p:nvPr/>
        </p:nvSpPr>
        <p:spPr>
          <a:xfrm>
            <a:off x="592200" y="1149480"/>
            <a:ext cx="772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3366"/>
                </a:solidFill>
                <a:latin typeface="Calibri"/>
                <a:ea typeface="Calibri"/>
              </a:rPr>
              <a:t>Letni pregled avtoriziranih/certificiranih izdatkov – OP RO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9" descr=""/>
          <p:cNvPicPr/>
          <p:nvPr/>
        </p:nvPicPr>
        <p:blipFill>
          <a:blip r:embed="rId1"/>
          <a:stretch/>
        </p:blipFill>
        <p:spPr>
          <a:xfrm>
            <a:off x="468360" y="1857240"/>
            <a:ext cx="4681440" cy="24926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0" descr=""/>
          <p:cNvPicPr/>
          <p:nvPr/>
        </p:nvPicPr>
        <p:blipFill>
          <a:blip r:embed="rId2"/>
          <a:stretch/>
        </p:blipFill>
        <p:spPr>
          <a:xfrm>
            <a:off x="3794040" y="4378320"/>
            <a:ext cx="4683240" cy="286380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39"/>
          <p:cNvSpPr/>
          <p:nvPr/>
        </p:nvSpPr>
        <p:spPr>
          <a:xfrm>
            <a:off x="411120" y="6321600"/>
            <a:ext cx="47214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Calibri"/>
              </a:rPr>
              <a:t>Stanje na dan: 30. 4. 20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Calibri"/>
              </a:rPr>
              <a:t>Vir: IS-PA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Date Placeholder 1"/>
          <p:cNvSpPr/>
          <p:nvPr/>
        </p:nvSpPr>
        <p:spPr>
          <a:xfrm>
            <a:off x="45720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C9298-4827-4C8F-97EA-D14308D8F486}" type="datetime">
              <a:rPr b="0" lang="sl-SI" sz="1000" spc="-1" strike="noStrike">
                <a:solidFill>
                  <a:srgbClr val="034ea2"/>
                </a:solidFill>
                <a:latin typeface="Arial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655308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80BF0-B886-4475-BAEC-1CD752F81991}" type="slidenum">
              <a:rPr b="0" lang="sl-SI" sz="1000" spc="-1" strike="noStrike">
                <a:solidFill>
                  <a:srgbClr val="034ea2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4"/>
          <p:cNvSpPr/>
          <p:nvPr/>
        </p:nvSpPr>
        <p:spPr>
          <a:xfrm>
            <a:off x="1849320" y="1209600"/>
            <a:ext cx="49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3366"/>
                </a:solidFill>
                <a:latin typeface="Calibri"/>
                <a:ea typeface="Calibri"/>
              </a:rPr>
              <a:t>Finančni tokovi PO - EK za OP ROPI 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39"/>
          <p:cNvSpPr/>
          <p:nvPr/>
        </p:nvSpPr>
        <p:spPr>
          <a:xfrm>
            <a:off x="411120" y="6321600"/>
            <a:ext cx="47214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Calibri"/>
              </a:rPr>
              <a:t>Stanje na dan: 30. 4. 20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Calibri"/>
              </a:rPr>
              <a:t>Vir: IS-PA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Group 1"/>
          <p:cNvGrpSpPr/>
          <p:nvPr/>
        </p:nvGrpSpPr>
        <p:grpSpPr>
          <a:xfrm>
            <a:off x="411120" y="2352600"/>
            <a:ext cx="7915320" cy="3148200"/>
            <a:chOff x="411120" y="2352600"/>
            <a:chExt cx="7915320" cy="3148200"/>
          </a:xfrm>
        </p:grpSpPr>
        <p:pic>
          <p:nvPicPr>
            <p:cNvPr id="140" name="Picture 7" descr=""/>
            <p:cNvPicPr/>
            <p:nvPr/>
          </p:nvPicPr>
          <p:blipFill>
            <a:blip r:embed="rId1"/>
            <a:stretch/>
          </p:blipFill>
          <p:spPr>
            <a:xfrm>
              <a:off x="411120" y="2352600"/>
              <a:ext cx="7915320" cy="69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" name="Picture 8" descr=""/>
            <p:cNvPicPr/>
            <p:nvPr/>
          </p:nvPicPr>
          <p:blipFill>
            <a:blip r:embed="rId2"/>
            <a:stretch/>
          </p:blipFill>
          <p:spPr>
            <a:xfrm>
              <a:off x="427320" y="2804760"/>
              <a:ext cx="7886880" cy="2696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Date Placeholder 1"/>
          <p:cNvSpPr/>
          <p:nvPr/>
        </p:nvSpPr>
        <p:spPr>
          <a:xfrm>
            <a:off x="45720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1F38D-4816-41F4-9B01-86D03389ABEA}" type="datetime">
              <a:rPr b="0" lang="sl-SI" sz="1000" spc="-1" strike="noStrike">
                <a:solidFill>
                  <a:srgbClr val="034ea2"/>
                </a:solidFill>
                <a:latin typeface="Arial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lide Number Placeholder 2"/>
          <p:cNvSpPr/>
          <p:nvPr/>
        </p:nvSpPr>
        <p:spPr>
          <a:xfrm>
            <a:off x="655308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B5D2D-756A-4E7F-8D21-005A4A3E828B}" type="slidenum">
              <a:rPr b="0" lang="sl-SI" sz="1000" spc="-1" strike="noStrike">
                <a:solidFill>
                  <a:srgbClr val="034ea2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4"/>
          <p:cNvSpPr/>
          <p:nvPr/>
        </p:nvSpPr>
        <p:spPr>
          <a:xfrm>
            <a:off x="1633680" y="1209600"/>
            <a:ext cx="526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3366"/>
                </a:solidFill>
                <a:latin typeface="Calibri"/>
                <a:ea typeface="Calibri"/>
              </a:rPr>
              <a:t>Finančni tokovi PO - EK za OP ROPI ESR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Group 1"/>
          <p:cNvGrpSpPr/>
          <p:nvPr/>
        </p:nvGrpSpPr>
        <p:grpSpPr>
          <a:xfrm>
            <a:off x="108000" y="2217600"/>
            <a:ext cx="8543880" cy="2724120"/>
            <a:chOff x="108000" y="2217600"/>
            <a:chExt cx="8543880" cy="2724120"/>
          </a:xfrm>
        </p:grpSpPr>
        <p:pic>
          <p:nvPicPr>
            <p:cNvPr id="146" name="Picture 7" descr=""/>
            <p:cNvPicPr/>
            <p:nvPr/>
          </p:nvPicPr>
          <p:blipFill>
            <a:blip r:embed="rId1"/>
            <a:stretch/>
          </p:blipFill>
          <p:spPr>
            <a:xfrm>
              <a:off x="108000" y="2217600"/>
              <a:ext cx="8515440" cy="67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8" descr=""/>
            <p:cNvPicPr/>
            <p:nvPr/>
          </p:nvPicPr>
          <p:blipFill>
            <a:blip r:embed="rId2"/>
            <a:stretch/>
          </p:blipFill>
          <p:spPr>
            <a:xfrm>
              <a:off x="108000" y="2865600"/>
              <a:ext cx="8543880" cy="2076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8" name="Text Box 39"/>
          <p:cNvSpPr/>
          <p:nvPr/>
        </p:nvSpPr>
        <p:spPr>
          <a:xfrm>
            <a:off x="411120" y="6321600"/>
            <a:ext cx="47214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Calibri"/>
              </a:rPr>
              <a:t>Stanje na dan: 30. 4. 20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Calibri"/>
              </a:rPr>
              <a:t>Vir: IS-PA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1T06:19:56Z</dcterms:created>
  <dc:creator>Z</dc:creator>
  <dc:description/>
  <dc:language>en-US</dc:language>
  <cp:lastModifiedBy>Evelyn Filip</cp:lastModifiedBy>
  <cp:lastPrinted>2013-06-04T06:50:20Z</cp:lastPrinted>
  <dcterms:modified xsi:type="dcterms:W3CDTF">2014-05-14T14:30:54Z</dcterms:modified>
  <cp:revision>232</cp:revision>
  <dc:subject/>
  <dc:title>Naslov</dc:title>
</cp:coreProperties>
</file>